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.jpeg" ContentType="image/jpeg"/>
  <Override PartName="/ppt/media/image4.wmf" ContentType="image/x-wmf"/>
  <Override PartName="/ppt/media/image2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58614-A4A1-414B-B1BA-1B75605FA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Έργα με Δαπάνες &gt; 80% του προϋπολογισμού του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Έργα με Δαπάνες &gt; 80% του προϋπολογισμού του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Έργα με Δαπάνες &gt; 80% του προϋπολογισμού του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Έργα με Δαπάνες &gt; 80% του προϋπολογισμού του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Έργα με Δαπάνες &gt; 80% του προϋπολογισμού του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6659-B692-424A-AB16-3FAA8B388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C75D-BF6C-404E-8796-B7155C5AF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2B73-BEF2-4C13-BF21-E3B69D7BF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5BD3-6689-486F-BA8C-E361D9B42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4A01-3ADF-46B7-B86F-E45241DBC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281B-FF3F-476B-8EB4-03DA6523E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D185-38AF-419F-9498-41F973082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A519-FF1D-41A5-A820-F56E0905E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54B8-442C-4A3F-B2AA-BB7F7AD9F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AD31-A076-4F65-8F80-BB1186FC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2595-B34B-44C4-9D39-B0CE2710E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A0EF-BB64-442F-860F-187ED47B5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25E31-1EFB-4251-83D5-10F6894403D6}" type="datetime">
              <a:rPr b="0" lang="el-G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47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F5057-B7E2-4751-AED2-AAE144633216}" type="slidenum">
              <a:rPr b="0" lang="el-G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5 - Θέση αριθμού διαφάνειας"/>
          <p:cNvSpPr/>
          <p:nvPr/>
        </p:nvSpPr>
        <p:spPr>
          <a:xfrm>
            <a:off x="65530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FF0F0-B368-4A77-A4FE-83C192EE631E}" type="slidenum">
              <a:rPr b="0" lang="el-G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5 - Θέση αριθμού διαφάνειας"/>
          <p:cNvSpPr/>
          <p:nvPr/>
        </p:nvSpPr>
        <p:spPr>
          <a:xfrm>
            <a:off x="65530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34526-8017-436E-943D-13D44752872B}" type="slidenum">
              <a:rPr b="0" lang="el-G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900000" y="312840"/>
          <a:ext cx="7786800" cy="6208560"/>
        </p:xfrm>
        <a:graphic>
          <a:graphicData uri="http://schemas.openxmlformats.org/drawingml/2006/table">
            <a:tbl>
              <a:tblPr/>
              <a:tblGrid>
                <a:gridCol w="3402000"/>
                <a:gridCol w="4384800"/>
              </a:tblGrid>
              <a:tr h="113328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- 8. Βασικά έργα υποδομή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7676"/>
                        </a:gs>
                        <a:gs pos="5000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096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Έργα επέκτασης και αναβάθμισης των ενεργειακών υποδομών της χώρα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417cb1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  </a:t>
                      </a:r>
                      <a:r>
                        <a:rPr b="1" lang="el-GR" sz="16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7</a:t>
                      </a: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έργα Φυσικού Αερίου ΔΔ 150 εκ. €</a:t>
                      </a:r>
                      <a:br>
                        <a:rPr sz="1400"/>
                      </a:b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(5 Μεγάλα Έργα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417cb1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  </a:t>
                      </a:r>
                      <a:r>
                        <a:rPr b="1" lang="el-GR" sz="16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12</a:t>
                      </a: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έργα ηλεκτρισμού ΔΔ 100 εκ. €</a:t>
                      </a:r>
                      <a:br>
                        <a:rPr sz="1400"/>
                      </a:b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(1 μεγάλο έργο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2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Έργα συμπλήρωσης /αναβάθμισης τουριστικών και πολιτιστικών υποδομών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417cb1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417cb1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  </a:t>
                      </a:r>
                      <a:r>
                        <a:rPr b="1" lang="el-GR" sz="16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120</a:t>
                      </a: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έργα σε τουριστικές και πολιτιστικές υποδομές (αρχαιολογικοί χώροι, μουσεία, καταφύγια τουριστικών σκαφών, αξιοποίηση δημόσιων τουρ. Ακινήτων, κλπ)     (ΔΔ 260 εκ. €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43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Δράσεις εξοικονόμησης ενέργειας σε κατοικίες και ΟΤ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417cb1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  </a:t>
                      </a:r>
                      <a:r>
                        <a:rPr b="1" lang="el-GR" sz="16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47.769</a:t>
                      </a: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νοικοκυριά επωφελούνται για την υλοποίηση παρεμβάσεων εξοικονόμησης ενέργειας σε κατοικίε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417cb1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Για την εξοικονόμηση στις κατοικίες έχουν δεσμευτεί </a:t>
                      </a:r>
                      <a:r>
                        <a:rPr b="1" lang="el-GR" sz="16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548 εκ. € ΔΔ </a:t>
                      </a: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δάνεια και άμεσες ενισχύσεις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417cb1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  </a:t>
                      </a:r>
                      <a:r>
                        <a:rPr b="1" lang="el-GR" sz="16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98.800</a:t>
                      </a: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νοικοκυριά αντικατέστησαν 140.000 ενεργοβόρες συσκευές κλιματισμού (46,5 εκ. €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417cb1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Έργα Εξοικονόμησης ενέργειας σε </a:t>
                      </a:r>
                      <a:r>
                        <a:rPr b="1" lang="el-GR" sz="16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104 </a:t>
                      </a: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δημοτικά κτίρια (ΔΔ 80 εκατ. €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0" name="5 - Θέση αριθμού διαφάνειας"/>
          <p:cNvSpPr/>
          <p:nvPr/>
        </p:nvSpPr>
        <p:spPr>
          <a:xfrm>
            <a:off x="65530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A7589-C330-416A-9168-0058D9E85D9E}" type="slidenum">
              <a:rPr b="0" lang="el-G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8"/>
          <p:cNvSpPr/>
          <p:nvPr/>
        </p:nvSpPr>
        <p:spPr>
          <a:xfrm>
            <a:off x="1116000" y="5950080"/>
            <a:ext cx="7273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417cb1"/>
                </a:solidFill>
                <a:latin typeface="Arial"/>
                <a:ea typeface="Arial"/>
              </a:rPr>
              <a:t>(</a:t>
            </a:r>
            <a:r>
              <a:rPr b="0" lang="en-US" sz="1200" spc="-1" strike="noStrike">
                <a:solidFill>
                  <a:srgbClr val="417cb1"/>
                </a:solidFill>
                <a:latin typeface="Arial"/>
                <a:ea typeface="Arial"/>
              </a:rPr>
              <a:t>*</a:t>
            </a:r>
            <a:r>
              <a:rPr b="0" lang="el-GR" sz="1200" spc="-1" strike="noStrike">
                <a:solidFill>
                  <a:srgbClr val="417cb1"/>
                </a:solidFill>
                <a:latin typeface="Arial"/>
                <a:ea typeface="Arial"/>
              </a:rPr>
              <a:t>) Υλοποιούνται από την ΕΥΔ ΕΠΑΕ στο πλαίσιο </a:t>
            </a:r>
            <a:r>
              <a:rPr b="0" lang="el-GR" sz="1200" spc="-1" strike="noStrike" u="sng">
                <a:solidFill>
                  <a:srgbClr val="417cb1"/>
                </a:solidFill>
                <a:uFillTx/>
                <a:latin typeface="Arial"/>
                <a:ea typeface="Arial"/>
              </a:rPr>
              <a:t>εκχώρησης</a:t>
            </a:r>
            <a:r>
              <a:rPr b="0" lang="el-GR" sz="1200" spc="-1" strike="noStrike">
                <a:solidFill>
                  <a:srgbClr val="417cb1"/>
                </a:solidFill>
                <a:latin typeface="Arial"/>
                <a:ea typeface="Arial"/>
              </a:rPr>
              <a:t> από το ΕΠ Εθνικό Αποθεματικό Απροβλέπτων </a:t>
            </a:r>
            <a:r>
              <a:rPr b="0" lang="en-US" sz="1200" spc="-1" strike="noStrike">
                <a:solidFill>
                  <a:srgbClr val="417cb1"/>
                </a:solidFill>
                <a:latin typeface="Arial"/>
                <a:ea typeface="Arial"/>
              </a:rPr>
              <a:t>(</a:t>
            </a:r>
            <a:r>
              <a:rPr b="0" lang="en-US" sz="1200" spc="-1" strike="noStrike" u="sng">
                <a:solidFill>
                  <a:srgbClr val="417cb1"/>
                </a:solidFill>
                <a:uFillTx/>
                <a:latin typeface="Arial"/>
                <a:ea typeface="Arial"/>
              </a:rPr>
              <a:t>113 </a:t>
            </a:r>
            <a:r>
              <a:rPr b="0" lang="el-GR" sz="1200" spc="-1" strike="noStrike" u="sng">
                <a:solidFill>
                  <a:srgbClr val="417cb1"/>
                </a:solidFill>
                <a:uFillTx/>
                <a:latin typeface="Arial"/>
                <a:ea typeface="Arial"/>
              </a:rPr>
              <a:t>εκ. €</a:t>
            </a:r>
            <a:r>
              <a:rPr b="0" lang="en-US" sz="1200" spc="-1" strike="noStrike">
                <a:solidFill>
                  <a:srgbClr val="417cb1"/>
                </a:solidFill>
                <a:latin typeface="Arial"/>
                <a:ea typeface="Arial"/>
              </a:rPr>
              <a:t>) </a:t>
            </a:r>
            <a:r>
              <a:rPr b="0" lang="el-GR" sz="1200" spc="-1" strike="noStrike">
                <a:solidFill>
                  <a:srgbClr val="417cb1"/>
                </a:solidFill>
                <a:latin typeface="Arial"/>
                <a:ea typeface="Arial"/>
              </a:rPr>
              <a:t>και το ΕΠ Ανάπτυξη Ανθρώπινου Δυναμικού</a:t>
            </a:r>
            <a:r>
              <a:rPr b="0" lang="en-US" sz="1200" spc="-1" strike="noStrike">
                <a:solidFill>
                  <a:srgbClr val="417cb1"/>
                </a:solidFill>
                <a:latin typeface="Arial"/>
                <a:ea typeface="Arial"/>
              </a:rPr>
              <a:t> (</a:t>
            </a:r>
            <a:r>
              <a:rPr b="0" lang="en-US" sz="1200" spc="-1" strike="noStrike" u="sng">
                <a:solidFill>
                  <a:srgbClr val="417cb1"/>
                </a:solidFill>
                <a:uFillTx/>
                <a:latin typeface="Arial"/>
                <a:ea typeface="Arial"/>
              </a:rPr>
              <a:t>22 </a:t>
            </a:r>
            <a:r>
              <a:rPr b="0" lang="el-GR" sz="1200" spc="-1" strike="noStrike" u="sng">
                <a:solidFill>
                  <a:srgbClr val="417cb1"/>
                </a:solidFill>
                <a:uFillTx/>
                <a:latin typeface="Arial"/>
                <a:ea typeface="Arial"/>
              </a:rPr>
              <a:t>εκ</a:t>
            </a:r>
            <a:r>
              <a:rPr b="0" lang="en-US" sz="1200" spc="-1" strike="noStrike">
                <a:solidFill>
                  <a:srgbClr val="417cb1"/>
                </a:solidFill>
                <a:latin typeface="Arial"/>
                <a:ea typeface="Arial"/>
              </a:rPr>
              <a:t>.</a:t>
            </a:r>
            <a:r>
              <a:rPr b="0" lang="el-GR" sz="1200" spc="-1" strike="noStrike">
                <a:solidFill>
                  <a:srgbClr val="417cb1"/>
                </a:solidFill>
                <a:latin typeface="Arial"/>
                <a:ea typeface="Arial"/>
              </a:rPr>
              <a:t> €</a:t>
            </a:r>
            <a:r>
              <a:rPr b="0" lang="en-US" sz="1200" spc="-1" strike="noStrike">
                <a:solidFill>
                  <a:srgbClr val="417cb1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006560" y="476280"/>
          <a:ext cx="7632720" cy="5340240"/>
        </p:xfrm>
        <a:graphic>
          <a:graphicData uri="http://schemas.openxmlformats.org/drawingml/2006/table">
            <a:tbl>
              <a:tblPr/>
              <a:tblGrid>
                <a:gridCol w="3967200"/>
                <a:gridCol w="3665520"/>
              </a:tblGrid>
              <a:tr h="100656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 </a:t>
                      </a:r>
                      <a:r>
                        <a:rPr b="1" lang="el-G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Σχέδια για στήριξη επιχειρηματικότητας και ενίσχυσης απασχόλησης και για την προσαρμοστικότητα εργαζομένων και επιχειρήσεων (ΕΚΤ) 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7676"/>
                        </a:gs>
                        <a:gs pos="5000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0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Ολοκληρωμένο Σχέδιο Παρέμβασης για τη στήριξη της επιχειρηματικότητας και της απασχόλησης (Στήριξη πρωτοβουλιών ανέργων και νέων επιχειρηματιών, Συμβουλευτική και κατάρτιση σε  επιχειρήσεις και παροχή κινήτρων για δημιουργία απασχόλησης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417cb1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417cb1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417cb1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   </a:t>
                      </a:r>
                      <a:r>
                        <a:rPr b="1" lang="el-GR" sz="14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3.1</a:t>
                      </a:r>
                      <a:r>
                        <a:rPr b="1" lang="en-US" sz="14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60</a:t>
                      </a: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επιχειρηματικά σχέδια, </a:t>
                      </a:r>
                      <a:br>
                        <a:rPr sz="1400"/>
                      </a:b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1" lang="el-GR" sz="14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10</a:t>
                      </a:r>
                      <a:r>
                        <a:rPr b="1" lang="en-US" sz="14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2</a:t>
                      </a: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εκ. € (ΔΔ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Ολοκληρωμένη παρέμβαση για τη στήριξη της γυναικείας απασχόλησης μέσω ενίσχυσης της επιχειρηματικότητας </a:t>
                      </a:r>
                      <a:br>
                        <a:rPr sz="1400"/>
                      </a:b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Ίδρυση νέων επιχειρήσεων, Στήριξη υφιστάμενων και νεοιδρυθεισών επιχειρήσεων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417cb1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   </a:t>
                      </a:r>
                      <a:r>
                        <a:rPr b="1" lang="el-GR" sz="14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1.</a:t>
                      </a:r>
                      <a:r>
                        <a:rPr b="1" lang="en-US" sz="14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834</a:t>
                      </a: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επιχειρηματικά σχέδια, </a:t>
                      </a:r>
                      <a:br>
                        <a:rPr sz="1400"/>
                      </a:b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1" lang="el-GR" sz="14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5</a:t>
                      </a:r>
                      <a:r>
                        <a:rPr b="1" lang="en-US" sz="14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7</a:t>
                      </a: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εκ. € (ΔΔ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1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Δράσεις άμεσης παρέμβασης (επαναπροσανατολισμός, κατάρτιση πιστοποίηση), για απολυμένους και απειλούμενους με ανεργί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417cb1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417cb1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   </a:t>
                      </a:r>
                      <a:r>
                        <a:rPr b="1" lang="el-GR" sz="14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2 </a:t>
                      </a: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δράσεις με </a:t>
                      </a:r>
                      <a:r>
                        <a:rPr b="1" lang="el-GR" sz="14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6.500 </a:t>
                      </a: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ωφελούμενους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     </a:t>
                      </a:r>
                      <a:r>
                        <a:rPr b="1" lang="el-GR" sz="14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33</a:t>
                      </a: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εκ. € (ΔΔ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8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Δράσεις για την προσαρμοστικότητα εργαζομένων και επιχειρήσεων (</a:t>
                      </a:r>
                      <a:r>
                        <a:rPr b="0" lang="el-GR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κατάρτιση/ επανακατάρτιση </a:t>
                      </a: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εργαζομένων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417cb1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   </a:t>
                      </a:r>
                      <a:r>
                        <a:rPr b="1" lang="el-GR" sz="14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4 </a:t>
                      </a: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δράσεις με σύνολο ωφελουμένων </a:t>
                      </a:r>
                      <a:br>
                        <a:rPr sz="1400"/>
                      </a:b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1" lang="el-GR" sz="14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27.000 </a:t>
                      </a: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εργαζόμενους και εποχιακά </a:t>
                      </a:r>
                      <a:br>
                        <a:rPr sz="1400"/>
                      </a:b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άνεργους,  </a:t>
                      </a:r>
                      <a:r>
                        <a:rPr b="1" lang="el-GR" sz="14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18</a:t>
                      </a: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εκ. € (ΔΔ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3" name="5 - Θέση αριθμού διαφάνειας"/>
          <p:cNvSpPr/>
          <p:nvPr/>
        </p:nvSpPr>
        <p:spPr>
          <a:xfrm>
            <a:off x="65530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CCE52-62CA-45F3-B443-F0CDCE9273D9}" type="slidenum">
              <a:rPr b="0" lang="el-G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5 - Θέση αριθμού διαφάνειας"/>
          <p:cNvSpPr/>
          <p:nvPr/>
        </p:nvSpPr>
        <p:spPr>
          <a:xfrm>
            <a:off x="65530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A2918-D9DC-4604-8A4E-4683792F110A}" type="slidenum">
              <a:rPr b="0" lang="el-G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5 - Θέση αριθμού διαφάνειας"/>
          <p:cNvSpPr/>
          <p:nvPr/>
        </p:nvSpPr>
        <p:spPr>
          <a:xfrm>
            <a:off x="65530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9688B-8967-4FA9-B0F8-2CC1C7686BEF}" type="slidenum">
              <a:rPr b="0" lang="el-G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042920" y="404280"/>
            <a:ext cx="76471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 u="sng">
                <a:solidFill>
                  <a:srgbClr val="000000"/>
                </a:solidFill>
                <a:uFillTx/>
                <a:latin typeface="Calibri"/>
              </a:rPr>
              <a:t>Κυριότερα Αποτελέσματα από δράσεις ΕΤΠ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lnSpc>
                <a:spcPct val="150000"/>
              </a:lnSpc>
              <a:spcBef>
                <a:spcPts val="451"/>
              </a:spcBef>
              <a:spcAft>
                <a:spcPts val="1800"/>
              </a:spcAft>
              <a:buClr>
                <a:srgbClr val="417cb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Υποστήριξη παραγωγικών επενδύσεων με προτεραιότητα την προώθηση της εξωστρέφειας, της καινοτομίας και της πράσινης ανάπτυξης σε μεταποίηση, τουρισμό, εμπόριο-υπηρεσίες (πάνω από </a:t>
            </a:r>
            <a:r>
              <a:rPr b="1" lang="el-GR" sz="1800" spc="-1" strike="noStrike">
                <a:solidFill>
                  <a:srgbClr val="417cb1"/>
                </a:solidFill>
                <a:latin typeface="Calibri"/>
                <a:ea typeface="Arial"/>
              </a:rPr>
              <a:t>20.000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επενδυτικά σχέδια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lnSpc>
                <a:spcPct val="150000"/>
              </a:lnSpc>
              <a:spcBef>
                <a:spcPts val="451"/>
              </a:spcBef>
              <a:spcAft>
                <a:spcPts val="1800"/>
              </a:spcAft>
              <a:buClr>
                <a:srgbClr val="417cb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Ενίσχυση της πρόσβασης των ΜΜΕ σε κεφάλαια επενδυτικά και επιχειρηματικής ανάπτυξης μέσω χρηματοοικονομικών εργαλείων  (πάνω από </a:t>
            </a:r>
            <a:r>
              <a:rPr b="1" lang="el-GR" sz="1800" spc="-1" strike="noStrike">
                <a:solidFill>
                  <a:srgbClr val="417cb1"/>
                </a:solidFill>
                <a:latin typeface="Calibri"/>
                <a:ea typeface="Arial"/>
              </a:rPr>
              <a:t>6.300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επιχειρήσεις έχουν επωφεληθεί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lnSpc>
                <a:spcPct val="150000"/>
              </a:lnSpc>
              <a:spcBef>
                <a:spcPts val="451"/>
              </a:spcBef>
              <a:spcAft>
                <a:spcPts val="1800"/>
              </a:spcAft>
              <a:buClr>
                <a:srgbClr val="417cb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Προώθηση της έρευνας, της τεχνολογικής ανάπτυξης, της καινοτομίας και της ενσωμάτωσής τους στον παραγωγικό ιστό: </a:t>
            </a:r>
            <a:br>
              <a:rPr sz="1800"/>
            </a:b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el-GR" sz="1800" spc="-1" strike="noStrike">
                <a:solidFill>
                  <a:srgbClr val="417cb1"/>
                </a:solidFill>
                <a:latin typeface="Calibri"/>
                <a:ea typeface="Arial"/>
              </a:rPr>
              <a:t>1.100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 έργα με συμμετοχή ερευνητικών φορέων και επιχειρήσεων </a:t>
            </a:r>
            <a:br>
              <a:rPr sz="1800"/>
            </a:b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en-US" sz="1800" spc="-1" strike="noStrike">
                <a:solidFill>
                  <a:srgbClr val="417cb1"/>
                </a:solidFill>
                <a:latin typeface="Calibri"/>
                <a:ea typeface="Arial"/>
              </a:rPr>
              <a:t>1.304 </a:t>
            </a:r>
            <a:r>
              <a:rPr b="1" lang="el-GR" sz="1800" spc="-1" strike="noStrike">
                <a:solidFill>
                  <a:srgbClr val="417cb1"/>
                </a:solidFill>
                <a:latin typeface="Calibri"/>
                <a:ea typeface="Arial"/>
              </a:rPr>
              <a:t>επιχειρήσεις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που επωφελούνται από σχετικές δράσει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5 - Θέση αριθμού διαφάνειας"/>
          <p:cNvSpPr/>
          <p:nvPr/>
        </p:nvSpPr>
        <p:spPr>
          <a:xfrm>
            <a:off x="65530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69B60-C3E3-4FB3-A628-93E881BD02F4}" type="slidenum">
              <a:rPr b="0" lang="el-G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5 - Θέση αριθμού διαφάνειας"/>
          <p:cNvSpPr/>
          <p:nvPr/>
        </p:nvSpPr>
        <p:spPr>
          <a:xfrm>
            <a:off x="65530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3B28E-2EEC-4D83-BB22-1E560885FDDC}" type="slidenum">
              <a:rPr b="0" lang="el-G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042920" y="404640"/>
            <a:ext cx="764712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 u="sng">
                <a:solidFill>
                  <a:srgbClr val="000000"/>
                </a:solidFill>
                <a:uFillTx/>
                <a:latin typeface="Calibri"/>
              </a:rPr>
              <a:t>Κυριότερα Αποτελέσματα από δράσεις ΕΤΠ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150000"/>
              </a:lnSpc>
              <a:spcBef>
                <a:spcPts val="451"/>
              </a:spcBef>
              <a:spcAft>
                <a:spcPts val="601"/>
              </a:spcAft>
              <a:buClr>
                <a:srgbClr val="417cb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Προώθηση της εξοικονόμησης ενέργειας στις κατοικίες (</a:t>
            </a:r>
            <a:r>
              <a:rPr b="1" lang="el-GR" sz="1800" spc="-1" strike="noStrike">
                <a:solidFill>
                  <a:srgbClr val="417cb1"/>
                </a:solidFill>
                <a:latin typeface="Calibri"/>
                <a:ea typeface="Arial"/>
              </a:rPr>
              <a:t>146.500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νοικοκυριά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150000"/>
              </a:lnSpc>
              <a:spcBef>
                <a:spcPts val="451"/>
              </a:spcBef>
              <a:spcAft>
                <a:spcPts val="601"/>
              </a:spcAft>
              <a:buClr>
                <a:srgbClr val="417cb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Arial"/>
              </a:rPr>
              <a:t>Επέκταση και αναβάθμιση των υποδομών φυσικού αερίου και ηλεκτρισμού της χώρα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150000"/>
              </a:lnSpc>
              <a:spcBef>
                <a:spcPts val="451"/>
              </a:spcBef>
              <a:spcAft>
                <a:spcPts val="601"/>
              </a:spcAft>
              <a:buClr>
                <a:srgbClr val="417cb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Αναβάθμιση του τουριστικού προϊόντος: </a:t>
            </a:r>
            <a:r>
              <a:rPr b="1" lang="el-GR" sz="1800" spc="-1" strike="noStrike">
                <a:solidFill>
                  <a:srgbClr val="417cb1"/>
                </a:solidFill>
                <a:latin typeface="Calibri"/>
                <a:ea typeface="Arial"/>
              </a:rPr>
              <a:t>30.000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τουριστικές κλίνες εκσυγχρονίζονται ή δημιουργούντα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150000"/>
              </a:lnSpc>
              <a:spcBef>
                <a:spcPts val="451"/>
              </a:spcBef>
              <a:spcAft>
                <a:spcPts val="601"/>
              </a:spcAft>
              <a:buClr>
                <a:srgbClr val="417cb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Ανάπτυξη και βελτίωση των τουριστικών και πολιτιστικών υποδομών, με στόχο την ποιοτική αναβάθμιση και την επιμήκυνση της τουριστικής περιόδου (</a:t>
            </a:r>
            <a:r>
              <a:rPr b="1" lang="el-GR" sz="1800" spc="-1" strike="noStrike">
                <a:solidFill>
                  <a:srgbClr val="417cb1"/>
                </a:solidFill>
                <a:latin typeface="Calibri"/>
                <a:ea typeface="Arial"/>
              </a:rPr>
              <a:t>120 έργα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150000"/>
              </a:lnSpc>
              <a:spcBef>
                <a:spcPts val="451"/>
              </a:spcBef>
              <a:spcAft>
                <a:spcPts val="601"/>
              </a:spcAft>
              <a:buClr>
                <a:srgbClr val="417cb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Διατήρηση και δημιουργία θέσεων άνω των </a:t>
            </a:r>
            <a:r>
              <a:rPr b="1" lang="el-GR" sz="1800" spc="-1" strike="noStrike">
                <a:solidFill>
                  <a:srgbClr val="417cb1"/>
                </a:solidFill>
                <a:latin typeface="Calibri"/>
                <a:ea typeface="Arial"/>
              </a:rPr>
              <a:t>100.000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θέσεων  απασχόλησης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5 - Θέση αριθμού διαφάνειας"/>
          <p:cNvSpPr/>
          <p:nvPr/>
        </p:nvSpPr>
        <p:spPr>
          <a:xfrm>
            <a:off x="65530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5B36C-2DFF-4D55-88E7-F9673F9995F1}" type="slidenum">
              <a:rPr b="0" lang="el-G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5 - Θέση αριθμού διαφάνειας"/>
          <p:cNvSpPr/>
          <p:nvPr/>
        </p:nvSpPr>
        <p:spPr>
          <a:xfrm>
            <a:off x="65530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CDB6B-200B-4C92-B269-C0BD7B6C8E98}" type="slidenum">
              <a:rPr b="0" lang="el-G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1187280" y="404640"/>
            <a:ext cx="7502760" cy="59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 u="sng">
                <a:solidFill>
                  <a:srgbClr val="000000"/>
                </a:solidFill>
                <a:uFillTx/>
                <a:latin typeface="Calibri"/>
              </a:rPr>
              <a:t>Κυριότερα Αποτελέσματα από παρεμβάσεις ΕΚ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buClr>
                <a:srgbClr val="0e1f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901"/>
              </a:spcBef>
              <a:spcAft>
                <a:spcPts val="601"/>
              </a:spcAft>
              <a:buClr>
                <a:srgbClr val="417cb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Στήριξη </a:t>
            </a:r>
            <a:r>
              <a:rPr b="1" lang="el-GR" sz="1800" spc="-1" strike="noStrike">
                <a:solidFill>
                  <a:srgbClr val="417cb1"/>
                </a:solidFill>
                <a:latin typeface="Calibri"/>
              </a:rPr>
              <a:t>5.000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επιχειρηματικών σχεδίω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901"/>
              </a:spcBef>
              <a:spcAft>
                <a:spcPts val="601"/>
              </a:spcAft>
              <a:buClr>
                <a:srgbClr val="417cb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Δημιουργία </a:t>
            </a:r>
            <a:r>
              <a:rPr b="1" lang="el-GR" sz="1800" spc="-1" strike="noStrike">
                <a:solidFill>
                  <a:srgbClr val="417cb1"/>
                </a:solidFill>
                <a:latin typeface="Calibri"/>
              </a:rPr>
              <a:t>6.000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θέσεων απασχόλησης  (νέων επιχειρηματιών και εργαζομένων στις νέες επιχειρήσει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901"/>
              </a:spcBef>
              <a:spcAft>
                <a:spcPts val="601"/>
              </a:spcAft>
              <a:buClr>
                <a:srgbClr val="417cb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Επαναπροσανατολισμός και κατάρτιση σε νέες ειδικότητες για </a:t>
            </a:r>
            <a:br>
              <a:rPr sz="1800"/>
            </a:br>
            <a:r>
              <a:rPr b="1" lang="el-GR" sz="1800" spc="-1" strike="noStrike">
                <a:solidFill>
                  <a:srgbClr val="417cb1"/>
                </a:solidFill>
                <a:latin typeface="Calibri"/>
              </a:rPr>
              <a:t>6.500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απολυμένους και απειλούμενους με ανεργί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901"/>
              </a:spcBef>
              <a:spcAft>
                <a:spcPts val="601"/>
              </a:spcAft>
              <a:buClr>
                <a:srgbClr val="417cb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Πιστοποίηση προσόντων </a:t>
            </a:r>
            <a:r>
              <a:rPr b="1" lang="en-US" sz="1800" spc="-1" strike="noStrike">
                <a:solidFill>
                  <a:srgbClr val="417cb1"/>
                </a:solidFill>
                <a:latin typeface="Calibri"/>
              </a:rPr>
              <a:t>800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ατόμων απειλούμενων με ανεργί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901"/>
              </a:spcBef>
              <a:spcAft>
                <a:spcPts val="601"/>
              </a:spcAft>
              <a:buClr>
                <a:srgbClr val="417cb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Αναβάθμιση προσόντων για </a:t>
            </a:r>
            <a:r>
              <a:rPr b="1" lang="el-GR" sz="1800" spc="-1" strike="noStrike">
                <a:solidFill>
                  <a:srgbClr val="417cb1"/>
                </a:solidFill>
                <a:latin typeface="Calibri"/>
              </a:rPr>
              <a:t>27.000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εργαζόμενους με θετικά αποτελέσματα υπέρ της εξωστρέφειας και της προσαρμογής των επιχειρήσεων στις νέες συνθήκες της αγορά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5 - Θέση αριθμού διαφάνειας"/>
          <p:cNvSpPr/>
          <p:nvPr/>
        </p:nvSpPr>
        <p:spPr>
          <a:xfrm>
            <a:off x="65530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E0953-9D1A-4D90-B60C-8FA2371FD513}" type="slidenum">
              <a:rPr b="0" lang="el-G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5 - Θέση αριθμού διαφάνειας"/>
          <p:cNvSpPr/>
          <p:nvPr/>
        </p:nvSpPr>
        <p:spPr>
          <a:xfrm>
            <a:off x="65530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DA50C-D794-4F73-BAA6-D4392EC26E65}" type="slidenum">
              <a:rPr b="0" lang="el-G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187280" y="620280"/>
            <a:ext cx="74995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 u="sng">
                <a:solidFill>
                  <a:srgbClr val="000000"/>
                </a:solidFill>
                <a:uFillTx/>
                <a:latin typeface="Calibri"/>
              </a:rPr>
              <a:t>Σημαντικότερα Προβλήματ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451"/>
              </a:spcBef>
              <a:spcAft>
                <a:spcPts val="1199"/>
              </a:spcAft>
              <a:buClr>
                <a:srgbClr val="417cb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Χαμηλός βαθμός ανταπόκρισης του ιδιωτικού τομέα στις δράσεις άμεσης ενίσχυσης λόγω κρίσης και αβεβαιότητας του επιχειρηματικού περιβάλλοντος, σε συνδυασμό με την κρίση του τραπεζικού συστήματος και την έλλειψη ρευστότητας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451"/>
              </a:spcBef>
              <a:spcAft>
                <a:spcPts val="1199"/>
              </a:spcAft>
              <a:buClr>
                <a:srgbClr val="417cb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Δυσκολίες στην αξιοποίηση των Ταμείων λόγω του αρνητικού οικονομικού  κλίματος,  των προβλημάτων του τραπεζικού τομέα και σε κάποιο βαθμό και της ίδιας της οργάνωσης και  λειτουργίας τους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451"/>
              </a:spcBef>
              <a:spcAft>
                <a:spcPts val="1199"/>
              </a:spcAft>
              <a:buClr>
                <a:srgbClr val="417cb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Καθυστερήσεις στις διαδικασίες ωρίμανσης, αξιολόγησης και εφαρμογής δράσεων Ε&amp;ΤΑ /Μειωμένη ανταπόκριση των επιχειρήσεω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451"/>
              </a:spcBef>
              <a:spcAft>
                <a:spcPts val="1199"/>
              </a:spcAft>
              <a:buClr>
                <a:srgbClr val="417cb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Καθυστερήσεις σε υλοποίηση ενεργειακών έργων υποδομής λόγω σημαντικού χρόνου ωρίμανσης και ανάγκης τεκμηρίωσης τήρησης των κανόνων ανταγωνισμού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5 - Θέση αριθμού διαφάνειας"/>
          <p:cNvSpPr/>
          <p:nvPr/>
        </p:nvSpPr>
        <p:spPr>
          <a:xfrm>
            <a:off x="65530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B54D0-BED6-44A4-9931-B16D82994718}" type="slidenum">
              <a:rPr b="0" lang="el-G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5 - Θέση αριθμού διαφάνειας"/>
          <p:cNvSpPr/>
          <p:nvPr/>
        </p:nvSpPr>
        <p:spPr>
          <a:xfrm>
            <a:off x="65530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C8336-5732-4FAA-9200-0796BE853DB3}" type="slidenum">
              <a:rPr b="0" lang="el-G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961920" y="549000"/>
            <a:ext cx="7786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 u="sng">
                <a:solidFill>
                  <a:srgbClr val="000000"/>
                </a:solidFill>
                <a:uFillTx/>
                <a:latin typeface="Calibri"/>
              </a:rPr>
              <a:t>Βασικές  Ενέργειε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spcAft>
                <a:spcPts val="601"/>
              </a:spcAft>
              <a:buClr>
                <a:srgbClr val="417cb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Βελτίωση πλαισίου κινήτρων προς επιχειρήσεις και ωφελούμενους </a:t>
            </a:r>
            <a:br>
              <a:rPr sz="1800"/>
            </a:b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(υψηλότερα ποσοστά ενίσχυσης, διεύρυνση επιλεξιμότητας ενεργειών και δαπανών, διευκολύνσεις στη χρηματοδότηση των έργων, κ.ά.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spcAft>
                <a:spcPts val="601"/>
              </a:spcAft>
              <a:buClr>
                <a:srgbClr val="417cb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Συνδυασμός με χρηματοδοτικά εργαλεία για διευκόλυνση χρηματοδότησης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spcAft>
                <a:spcPts val="601"/>
              </a:spcAft>
              <a:buClr>
                <a:srgbClr val="417cb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Αναπροσαρμογή Οδηγών Εφαρμογής κρατικών ενισχύσεων με σκοπό την απλοποίηση και επιτάχυνση των διαδικασιών πιστοποίησης και εκταμίευσης,  παρατάσεις προθεσμιών υλοποίησης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spcAft>
                <a:spcPts val="601"/>
              </a:spcAft>
              <a:buClr>
                <a:srgbClr val="417cb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Ανασχεδιασμός, αναπροσαρμογή και συνεχής παρακολούθηση των χρηματοοικονομικών εργαλείων (πχ εισαγωγή κεφαλαίου κίνησης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spcAft>
                <a:spcPts val="601"/>
              </a:spcAft>
              <a:buClr>
                <a:srgbClr val="417cb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Καθιέρωση ηλεκτρονικής  υποβολής, αξιολόγηση, παρακολούθηση, πιστοποίηση και πληρωμή των έργων με αποτέλεσμα την επιτάχυνση και την αντικειμενικοποίηση  των διαδικασιών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spcAft>
                <a:spcPts val="601"/>
              </a:spcAft>
              <a:buClr>
                <a:srgbClr val="417cb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Συνεχής συνεργασία με τους εμπλεκόμενους σε όλα τα στάδια: </a:t>
            </a:r>
            <a:br>
              <a:rPr sz="1800"/>
            </a:b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φορείς προγραμματισμού, ενδιάμεσους φορείς  διαχείρισης , δικαιούχους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5 - Θέση αριθμού διαφάνειας"/>
          <p:cNvSpPr/>
          <p:nvPr/>
        </p:nvSpPr>
        <p:spPr>
          <a:xfrm>
            <a:off x="65530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862C9-0D8C-49EF-B3F2-FBEAC222D40A}" type="slidenum">
              <a:rPr b="0" lang="el-G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5 - Θέση αριθμού διαφάνειας"/>
          <p:cNvSpPr/>
          <p:nvPr/>
        </p:nvSpPr>
        <p:spPr>
          <a:xfrm>
            <a:off x="65530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9E24E-C6CF-4529-B784-EBB49C7351AA}" type="slidenum">
              <a:rPr b="0" lang="el-G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115640" y="620640"/>
            <a:ext cx="748836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 u="sng">
                <a:solidFill>
                  <a:srgbClr val="000000"/>
                </a:solidFill>
                <a:uFillTx/>
                <a:latin typeface="Calibri"/>
              </a:rPr>
              <a:t>Συμπερασματικά  για  το  ΕΠΑΝ ΙΙ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19080">
              <a:spcBef>
                <a:spcPts val="601"/>
              </a:spcBef>
              <a:spcAft>
                <a:spcPts val="601"/>
              </a:spcAft>
              <a:buClr>
                <a:srgbClr val="417cb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Αποτελεί κρίσιμο αναπτυξιακό εργαλείο και μέσο ουσιαστικής αντιμετώπισης της κρίσης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19080">
              <a:spcBef>
                <a:spcPts val="601"/>
              </a:spcBef>
              <a:spcAft>
                <a:spcPts val="601"/>
              </a:spcAft>
              <a:buClr>
                <a:srgbClr val="417cb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Ο κεντρικός στόχος και η στρατηγική του παραμένουν επίκαιροι αποκτώντας καθοριστική κρισιμότητα για έξοδο από την κρίση και ανάκαμψ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19080">
              <a:spcBef>
                <a:spcPts val="601"/>
              </a:spcBef>
              <a:spcAft>
                <a:spcPts val="601"/>
              </a:spcAft>
              <a:buClr>
                <a:srgbClr val="417cb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Οι κρατικές ενισχύσεις αποτελούν σημαντικό μηχανισμό μόχλευσης, παρά τις δυσκολίες, με θετική συμβολή:</a:t>
            </a:r>
            <a:br>
              <a:rPr sz="1800"/>
            </a:b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 - στη βελτίωση των παραγωγικών  διαδικασιών</a:t>
            </a:r>
            <a:br>
              <a:rPr sz="1800"/>
            </a:b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 - στα οικονομικά μεγέθη (τζίρος εξαγωγές) </a:t>
            </a:r>
            <a:br>
              <a:rPr sz="1800"/>
            </a:b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 - στη διατήρηση της απασχόλησης </a:t>
            </a:r>
            <a:br>
              <a:rPr sz="1800"/>
            </a:b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 - στους επιμέρους στόχους (πχ προώθηση σε ξένες αγορές στην Εξωστρέφεια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5 - Θέση αριθμού διαφάνειας"/>
          <p:cNvSpPr/>
          <p:nvPr/>
        </p:nvSpPr>
        <p:spPr>
          <a:xfrm>
            <a:off x="65530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DD3FE-65DC-44F5-86FB-1CAEA22CD3F6}" type="slidenum">
              <a:rPr b="0" lang="el-G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5 - Θέση αριθμού διαφάνειας"/>
          <p:cNvSpPr/>
          <p:nvPr/>
        </p:nvSpPr>
        <p:spPr>
          <a:xfrm>
            <a:off x="65530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B9DAB-0EB5-4759-ABDD-AF0F5B325FCC}" type="slidenum">
              <a:rPr b="0" lang="el-G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186920" y="620640"/>
            <a:ext cx="727236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 u="sng">
                <a:solidFill>
                  <a:srgbClr val="000000"/>
                </a:solidFill>
                <a:uFillTx/>
                <a:latin typeface="Calibri"/>
              </a:rPr>
              <a:t>Στόχοι  για….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51"/>
              </a:spcBef>
              <a:spcAft>
                <a:spcPts val="601"/>
              </a:spcAft>
              <a:buClr>
                <a:srgbClr val="417cb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Καλύτερη αντιστοίχιση με ανάγκες αλλά και προοπτικές επιχειρήσεων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51"/>
              </a:spcBef>
              <a:spcAft>
                <a:spcPts val="601"/>
              </a:spcAft>
              <a:buClr>
                <a:srgbClr val="417cb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Περαιτέρω απλούστευση διαδικασιών, ευελιξία και στόχευση στο αποτέλεσμ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51"/>
              </a:spcBef>
              <a:spcAft>
                <a:spcPts val="601"/>
              </a:spcAft>
              <a:buClr>
                <a:srgbClr val="417cb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Αξιοποίηση για συνδυασμό των χρηματοδοτικών εργαλείων, ώστε οι ενισχύσεις να είναι «σύνθετες» για να ανταποκρίνονται στο σύνθετο επενδυτικό σχεδιασμό των επιχειρήσεω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51"/>
              </a:spcBef>
              <a:spcAft>
                <a:spcPts val="601"/>
              </a:spcAft>
              <a:buClr>
                <a:srgbClr val="417cb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«Ανοιχτές» προκηρύξεις (οι επενδύσεις δεν μπορούν να ακολουθούν το συγχρονισμό των προκηρύξεων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51"/>
              </a:spcBef>
              <a:spcAft>
                <a:spcPts val="601"/>
              </a:spcAft>
              <a:buClr>
                <a:srgbClr val="417cb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Μεγαλύτερη έμφαση στην παρακολούθηση &amp; αξιολόγηση των δράσεων κατά την εφαρμογή και αποτίμηση των αποτελεσμάτω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67071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alibri"/>
                <a:ea typeface="Tahoma"/>
              </a:rPr>
              <a:t>Δημοσιότητα - Προβολή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4 - Θέση περιεχομένου" descr="antagonistikotita-final.jpg"/>
          <p:cNvPicPr/>
          <p:nvPr/>
        </p:nvPicPr>
        <p:blipFill>
          <a:blip r:embed="rId1"/>
          <a:stretch/>
        </p:blipFill>
        <p:spPr>
          <a:xfrm>
            <a:off x="1309680" y="3457440"/>
            <a:ext cx="2376360" cy="3022560"/>
          </a:xfrm>
          <a:prstGeom prst="rect">
            <a:avLst/>
          </a:prstGeom>
          <a:ln w="9360">
            <a:solidFill>
              <a:srgbClr val="38b2a3"/>
            </a:solidFill>
            <a:miter/>
          </a:ln>
        </p:spPr>
      </p:pic>
      <p:sp>
        <p:nvSpPr>
          <p:cNvPr id="107" name="5 - TextBox"/>
          <p:cNvSpPr/>
          <p:nvPr/>
        </p:nvSpPr>
        <p:spPr>
          <a:xfrm>
            <a:off x="4140360" y="907920"/>
            <a:ext cx="4464000" cy="22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1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1700" spc="-1" strike="noStrike">
                <a:solidFill>
                  <a:srgbClr val="000000"/>
                </a:solidFill>
                <a:latin typeface="Calibri"/>
                <a:ea typeface="Tahoma"/>
              </a:rPr>
              <a:t>Έμφαση στην προβολή επιχειρηματιών που  υλοποίησαν με επιτυχία τα επενδυτικά τους σχέδια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1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700" spc="-1" strike="noStrike">
                <a:solidFill>
                  <a:srgbClr val="000000"/>
                </a:solidFill>
                <a:latin typeface="Calibri"/>
                <a:ea typeface="Tahoma"/>
              </a:rPr>
              <a:t>  </a:t>
            </a:r>
            <a:r>
              <a:rPr b="0" lang="el-GR" sz="1700" spc="-1" strike="noStrike">
                <a:solidFill>
                  <a:srgbClr val="000000"/>
                </a:solidFill>
                <a:latin typeface="Calibri"/>
                <a:ea typeface="Tahoma"/>
              </a:rPr>
              <a:t>Ανάδειξη θετικών προτύπων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1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700" spc="-1" strike="noStrike">
                <a:solidFill>
                  <a:srgbClr val="000000"/>
                </a:solidFill>
                <a:latin typeface="Calibri"/>
                <a:ea typeface="Tahoma"/>
              </a:rPr>
              <a:t>  </a:t>
            </a:r>
            <a:r>
              <a:rPr b="0" lang="el-GR" sz="1700" spc="-1" strike="noStrike">
                <a:solidFill>
                  <a:srgbClr val="000000"/>
                </a:solidFill>
                <a:latin typeface="Calibri"/>
                <a:ea typeface="Tahoma"/>
              </a:rPr>
              <a:t>Ενίσχυση διαφάνειας και προτροπή για συμμετοχή στις Προκηρύξεις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8 - Εικόνα" descr="video epitropis.jpg"/>
          <p:cNvPicPr/>
          <p:nvPr/>
        </p:nvPicPr>
        <p:blipFill>
          <a:blip r:embed="rId2"/>
          <a:stretch/>
        </p:blipFill>
        <p:spPr>
          <a:xfrm>
            <a:off x="1028880" y="981000"/>
            <a:ext cx="2966760" cy="194472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09" name="9 - Εικόνα" descr="10502144_254208251443861_6844370233449726043_n.jpg"/>
          <p:cNvPicPr/>
          <p:nvPr/>
        </p:nvPicPr>
        <p:blipFill>
          <a:blip r:embed="rId3"/>
          <a:stretch/>
        </p:blipFill>
        <p:spPr>
          <a:xfrm>
            <a:off x="4427640" y="3355920"/>
            <a:ext cx="3744720" cy="2449440"/>
          </a:xfrm>
          <a:prstGeom prst="rect">
            <a:avLst/>
          </a:prstGeom>
          <a:ln w="9360">
            <a:solidFill>
              <a:srgbClr val="1f497d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10" name="3 - Εικόνα" descr="facebook.png"/>
          <p:cNvPicPr/>
          <p:nvPr/>
        </p:nvPicPr>
        <p:blipFill>
          <a:blip r:embed="rId4"/>
          <a:stretch/>
        </p:blipFill>
        <p:spPr>
          <a:xfrm>
            <a:off x="4680000" y="5950080"/>
            <a:ext cx="504720" cy="455400"/>
          </a:xfrm>
          <a:prstGeom prst="rect">
            <a:avLst/>
          </a:prstGeom>
          <a:ln w="0">
            <a:noFill/>
          </a:ln>
        </p:spPr>
      </p:pic>
      <p:pic>
        <p:nvPicPr>
          <p:cNvPr id="111" name="9 - Εικόνα" descr="twitter.png"/>
          <p:cNvPicPr/>
          <p:nvPr/>
        </p:nvPicPr>
        <p:blipFill>
          <a:blip r:embed="rId5"/>
          <a:stretch/>
        </p:blipFill>
        <p:spPr>
          <a:xfrm>
            <a:off x="5475240" y="5950080"/>
            <a:ext cx="504720" cy="455400"/>
          </a:xfrm>
          <a:prstGeom prst="rect">
            <a:avLst/>
          </a:prstGeom>
          <a:ln w="0">
            <a:noFill/>
          </a:ln>
        </p:spPr>
      </p:pic>
      <p:pic>
        <p:nvPicPr>
          <p:cNvPr id="112" name="10 - Εικόνα" descr="linkedin.png"/>
          <p:cNvPicPr/>
          <p:nvPr/>
        </p:nvPicPr>
        <p:blipFill>
          <a:blip r:embed="rId6"/>
          <a:stretch/>
        </p:blipFill>
        <p:spPr>
          <a:xfrm>
            <a:off x="6192720" y="5950080"/>
            <a:ext cx="505080" cy="455400"/>
          </a:xfrm>
          <a:prstGeom prst="rect">
            <a:avLst/>
          </a:prstGeom>
          <a:ln w="0">
            <a:noFill/>
          </a:ln>
        </p:spPr>
      </p:pic>
      <p:pic>
        <p:nvPicPr>
          <p:cNvPr id="113" name="11 - Εικόνα" descr="YouTube-logo-full_color.png"/>
          <p:cNvPicPr/>
          <p:nvPr/>
        </p:nvPicPr>
        <p:blipFill>
          <a:blip r:embed="rId7"/>
          <a:stretch/>
        </p:blipFill>
        <p:spPr>
          <a:xfrm>
            <a:off x="6769080" y="5686560"/>
            <a:ext cx="1187640" cy="982440"/>
          </a:xfrm>
          <a:prstGeom prst="rect">
            <a:avLst/>
          </a:prstGeom>
          <a:ln w="0">
            <a:noFill/>
          </a:ln>
        </p:spPr>
      </p:pic>
      <p:sp>
        <p:nvSpPr>
          <p:cNvPr id="114" name="Ορθογώνιο 1"/>
          <p:cNvSpPr/>
          <p:nvPr/>
        </p:nvSpPr>
        <p:spPr>
          <a:xfrm>
            <a:off x="971640" y="3284640"/>
            <a:ext cx="3168720" cy="368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Tahoma"/>
                <a:ea typeface="Tahoma"/>
              </a:rPr>
              <a:t>www</a:t>
            </a:r>
            <a:r>
              <a:rPr b="1" lang="el-GR" sz="1800" spc="-1" strike="noStrike">
                <a:solidFill>
                  <a:srgbClr val="1f497d"/>
                </a:solidFill>
                <a:latin typeface="Tahoma"/>
                <a:ea typeface="Tahoma"/>
              </a:rPr>
              <a:t>.</a:t>
            </a:r>
            <a:r>
              <a:rPr b="1" lang="en-US" sz="1800" spc="-1" strike="noStrike">
                <a:solidFill>
                  <a:srgbClr val="1f497d"/>
                </a:solidFill>
                <a:latin typeface="Tahoma"/>
                <a:ea typeface="Tahoma"/>
              </a:rPr>
              <a:t>antagonistikotita</a:t>
            </a:r>
            <a:r>
              <a:rPr b="1" lang="el-GR" sz="1800" spc="-1" strike="noStrike">
                <a:solidFill>
                  <a:srgbClr val="1f497d"/>
                </a:solidFill>
                <a:latin typeface="Tahoma"/>
                <a:ea typeface="Tahoma"/>
              </a:rPr>
              <a:t>.</a:t>
            </a:r>
            <a:r>
              <a:rPr b="1" lang="en-US" sz="1800" spc="-1" strike="noStrike">
                <a:solidFill>
                  <a:srgbClr val="1f497d"/>
                </a:solidFill>
                <a:latin typeface="Tahoma"/>
                <a:ea typeface="Tahoma"/>
              </a:rPr>
              <a:t>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Ορθογώνιο 2"/>
          <p:cNvSpPr/>
          <p:nvPr/>
        </p:nvSpPr>
        <p:spPr>
          <a:xfrm>
            <a:off x="1403280" y="6021360"/>
            <a:ext cx="2305080" cy="368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1f497d"/>
                </a:solidFill>
                <a:latin typeface="Tahoma"/>
                <a:ea typeface="Tahoma"/>
              </a:rPr>
              <a:t>801 11 36 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5 - Θέση αριθμού διαφάνειας"/>
          <p:cNvSpPr/>
          <p:nvPr/>
        </p:nvSpPr>
        <p:spPr>
          <a:xfrm>
            <a:off x="65530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C81DB-4BC8-40A7-9120-358CF9333B0D}" type="slidenum">
              <a:rPr b="0" lang="el-G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5 - Θέση αριθμού διαφάνειας"/>
          <p:cNvSpPr/>
          <p:nvPr/>
        </p:nvSpPr>
        <p:spPr>
          <a:xfrm>
            <a:off x="65530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4B887-05D6-4178-81DB-71A81901D5FC}" type="slidenum">
              <a:rPr b="0" lang="el-G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258560" y="907920"/>
            <a:ext cx="742788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 u="sng">
                <a:solidFill>
                  <a:srgbClr val="000000"/>
                </a:solidFill>
                <a:uFillTx/>
                <a:latin typeface="Calibri"/>
              </a:rPr>
              <a:t>Κύριος αναπτυξιακός στόχο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Η βελτίωση της ανταγωνιστικότητας και της εξωστρέφειας των επιχειρήσεων, καθώς και του παραγωγικού συστήματος της χώρας γενικότερα, με έμφαση στην καινοτομία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 u="sng">
                <a:solidFill>
                  <a:srgbClr val="000000"/>
                </a:solidFill>
                <a:uFillTx/>
                <a:latin typeface="Calibri"/>
              </a:rPr>
              <a:t>Τομείς παρέμβαση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Βιομηχανία - Μεταποίησ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Έρευνα και Τεχνολογί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Ενέργει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Τουρισμός και Πολιτισμό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Εμπόριο και Προστασία Καταναλωτή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8"/>
          <p:cNvSpPr/>
          <p:nvPr/>
        </p:nvSpPr>
        <p:spPr>
          <a:xfrm>
            <a:off x="1403280" y="5429160"/>
            <a:ext cx="70167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100" spc="-1" strike="noStrike">
                <a:solidFill>
                  <a:srgbClr val="000000"/>
                </a:solidFill>
                <a:latin typeface="Arial"/>
                <a:ea typeface="Arial"/>
              </a:rPr>
              <a:t>Με τη συγχρηματοδότηση της Ελλάδας και της Ευρωπαϊκής Ένωσης - Ευρωπαϊκό Ταμείο Περιφερειακής Ανάπτυξης (ΕΤΠΑ), στο πλαίσιο του Ε.Π. Ανταγωνιστικότητα και Επιχειρηματικότητα (ΕΠΑΝ ΙΙ) και των Π.Ε.Π. Αττικής, Μακεδονίας - Θράκης, Κρήτης και Νήσων Αιγαίου, Θεσσαλίας - Στερεάς Ελλάδας - Ηπείρου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9" descr="flag_2colors_ΕΤΠΑ"/>
          <p:cNvPicPr/>
          <p:nvPr/>
        </p:nvPicPr>
        <p:blipFill>
          <a:blip r:embed="rId1"/>
          <a:stretch/>
        </p:blipFill>
        <p:spPr>
          <a:xfrm>
            <a:off x="1547640" y="2760840"/>
            <a:ext cx="1243080" cy="12222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2" descr="EPAN-LOGOS FINALplagioN copy"/>
          <p:cNvPicPr/>
          <p:nvPr/>
        </p:nvPicPr>
        <p:blipFill>
          <a:blip r:embed="rId2"/>
          <a:stretch/>
        </p:blipFill>
        <p:spPr>
          <a:xfrm>
            <a:off x="3481560" y="2717640"/>
            <a:ext cx="2027160" cy="1216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5" descr="logo_YPAAN_new 2013_EYD_1"/>
          <p:cNvPicPr/>
          <p:nvPr/>
        </p:nvPicPr>
        <p:blipFill>
          <a:blip r:embed="rId3"/>
          <a:stretch/>
        </p:blipFill>
        <p:spPr>
          <a:xfrm>
            <a:off x="3132000" y="692280"/>
            <a:ext cx="3743640" cy="1331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4" descr="logo_espa"/>
          <p:cNvPicPr/>
          <p:nvPr/>
        </p:nvPicPr>
        <p:blipFill>
          <a:blip r:embed="rId4"/>
          <a:stretch/>
        </p:blipFill>
        <p:spPr>
          <a:xfrm>
            <a:off x="6156360" y="2806560"/>
            <a:ext cx="2084400" cy="10972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ull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116000" y="1052640"/>
            <a:ext cx="7570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Ειδική Υπηρεσία Διαχείριση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Επιχειρησιακού Προγράμματο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el-GR" sz="2000" spc="-1" strike="noStrike">
                <a:solidFill>
                  <a:srgbClr val="000000"/>
                </a:solidFill>
                <a:latin typeface="Calibri"/>
              </a:rPr>
              <a:t>Ανταγωνιστικότητα και Επιχειρηματικότητα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» 2007-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(ΕΥΔ ΕΠΑΕ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Αγγελική Φέτσ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ΜΟΝΑΔΑ Α1 -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Προγραμματισμού και Αξιολόγησης Ε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ww.antagonistikotita.g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5 - Θέση αριθμού διαφάνειας"/>
          <p:cNvSpPr/>
          <p:nvPr/>
        </p:nvSpPr>
        <p:spPr>
          <a:xfrm>
            <a:off x="65530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205AC-9FB1-4CE1-8DB7-AB351A014D29}" type="slidenum">
              <a:rPr b="0" lang="el-G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5 - Θέση αριθμού διαφάνειας"/>
          <p:cNvSpPr/>
          <p:nvPr/>
        </p:nvSpPr>
        <p:spPr>
          <a:xfrm>
            <a:off x="65530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74E6F-09E4-4033-A1C0-8F625900B166}" type="slidenum">
              <a:rPr b="0" lang="el-G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042560" y="907920"/>
            <a:ext cx="764388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 u="sng">
                <a:solidFill>
                  <a:srgbClr val="000000"/>
                </a:solidFill>
                <a:uFillTx/>
                <a:latin typeface="Calibri"/>
              </a:rPr>
              <a:t>Άξονες Προτεραιότητα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12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Δημιουργία και αξιοποίηση της καινοτομίας υποστηριζόμενης από </a:t>
            </a:r>
            <a:r>
              <a:rPr b="1" lang="el-GR" sz="2000" spc="-1" strike="noStrike">
                <a:solidFill>
                  <a:srgbClr val="000000"/>
                </a:solidFill>
                <a:latin typeface="Calibri"/>
              </a:rPr>
              <a:t>έρευνα και τεχνολογική ανάπτυξ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Ενίσχυση της </a:t>
            </a:r>
            <a:r>
              <a:rPr b="1" lang="el-GR" sz="2000" spc="-1" strike="noStrike">
                <a:solidFill>
                  <a:srgbClr val="000000"/>
                </a:solidFill>
                <a:latin typeface="Calibri"/>
              </a:rPr>
              <a:t>Επιχειρηματικότητας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και της Εξωστρέφεια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Βελτίωση  </a:t>
            </a:r>
            <a:r>
              <a:rPr b="1" lang="el-GR" sz="2000" spc="-1" strike="noStrike">
                <a:solidFill>
                  <a:srgbClr val="000000"/>
                </a:solidFill>
                <a:latin typeface="Calibri"/>
              </a:rPr>
              <a:t>επιχειρηματικού περιβάλλοντο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Ολοκλήρωση του </a:t>
            </a:r>
            <a:r>
              <a:rPr b="1" lang="el-GR" sz="2000" spc="-1" strike="noStrike">
                <a:solidFill>
                  <a:srgbClr val="000000"/>
                </a:solidFill>
                <a:latin typeface="Calibri"/>
              </a:rPr>
              <a:t>ενεργειακού συστήματος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 της χώρας και ενίσχυση της αειφορία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utoShape 4"/>
          <p:cNvSpPr/>
          <p:nvPr/>
        </p:nvSpPr>
        <p:spPr>
          <a:xfrm>
            <a:off x="7308720" y="1123920"/>
            <a:ext cx="142920" cy="576360"/>
          </a:xfrm>
          <a:custGeom>
            <a:avLst/>
            <a:gdLst>
              <a:gd name="textAreaLeft" fmla="*/ 0 w 142920"/>
              <a:gd name="textAreaRight" fmla="*/ 51480 w 14292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7554960" y="1125360"/>
            <a:ext cx="1409760" cy="71928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Arial"/>
              </a:rPr>
              <a:t>3,14 δις € Δ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755640" y="476280"/>
            <a:ext cx="6481800" cy="136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Διαθέσιμος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 </a:t>
            </a:r>
            <a:r>
              <a:rPr b="1" lang="el-GR" sz="2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Προϋπολογισμός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 </a:t>
            </a:r>
            <a:r>
              <a:rPr b="1" lang="el-GR" sz="2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ΕΤΠ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333399"/>
                </a:solidFill>
                <a:latin typeface="Calibri"/>
                <a:ea typeface="Arial"/>
              </a:rPr>
              <a:t>Π/Υ ΕΠΑΝ ΙΙ :                                                               </a:t>
            </a:r>
            <a:r>
              <a:rPr b="1" lang="el-GR" sz="1600" spc="-1" strike="noStrike">
                <a:solidFill>
                  <a:srgbClr val="0000ff"/>
                </a:solidFill>
                <a:latin typeface="Calibri"/>
                <a:ea typeface="Arial"/>
              </a:rPr>
              <a:t>1,71</a:t>
            </a:r>
            <a:r>
              <a:rPr b="0" lang="el-GR" sz="1600" spc="-1" strike="noStrike">
                <a:solidFill>
                  <a:srgbClr val="0000ff"/>
                </a:solidFill>
                <a:latin typeface="Calibri"/>
                <a:ea typeface="Arial"/>
              </a:rPr>
              <a:t> δις 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333399"/>
                </a:solidFill>
                <a:latin typeface="Calibri"/>
                <a:ea typeface="Arial"/>
              </a:rPr>
              <a:t>Π/Υ Εκχώρησης 2014 (με Δράση ΜΜΕ):         </a:t>
            </a:r>
            <a:r>
              <a:rPr b="1" lang="en-US" sz="1600" spc="-1" strike="noStrike">
                <a:solidFill>
                  <a:srgbClr val="333399"/>
                </a:solidFill>
                <a:latin typeface="Calibri"/>
                <a:ea typeface="Arial"/>
              </a:rPr>
              <a:t>      </a:t>
            </a:r>
            <a:r>
              <a:rPr b="1" lang="el-GR" sz="1600" spc="-1" strike="noStrike">
                <a:solidFill>
                  <a:srgbClr val="0000ff"/>
                </a:solidFill>
                <a:latin typeface="Calibri"/>
                <a:ea typeface="Arial"/>
              </a:rPr>
              <a:t>1,43</a:t>
            </a:r>
            <a:r>
              <a:rPr b="0" lang="el-GR" sz="1600" spc="-1" strike="noStrike">
                <a:solidFill>
                  <a:srgbClr val="0000ff"/>
                </a:solidFill>
                <a:latin typeface="Calibri"/>
                <a:ea typeface="Arial"/>
              </a:rPr>
              <a:t> δις 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1042920" y="5805360"/>
            <a:ext cx="7705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Arial"/>
              </a:rPr>
              <a:t>*</a:t>
            </a:r>
            <a:r>
              <a:rPr b="0" lang="el-GR" sz="1100" spc="-1" strike="noStrike">
                <a:solidFill>
                  <a:srgbClr val="000000"/>
                </a:solidFill>
                <a:latin typeface="Calibri"/>
                <a:ea typeface="Arial"/>
              </a:rPr>
              <a:t>Βάσει του Κανονισμού 1297/2013 το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Arial"/>
              </a:rPr>
              <a:t>top up (+10%) </a:t>
            </a:r>
            <a:r>
              <a:rPr b="0" lang="el-GR" sz="1100" spc="-1" strike="noStrike">
                <a:solidFill>
                  <a:srgbClr val="000000"/>
                </a:solidFill>
                <a:latin typeface="Calibri"/>
                <a:ea typeface="Arial"/>
              </a:rPr>
              <a:t>θα εφαρμοσθεί και κατά την ολοκλήρωση των Προγραμμάτων πάνω στην εγκεκριμένη Κοινοτική Συνδρομή (85%) για τις δαπάνες από 1/1/2010 και εξής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1"/>
          <p:cNvSpPr/>
          <p:nvPr/>
        </p:nvSpPr>
        <p:spPr>
          <a:xfrm>
            <a:off x="7740720" y="1916280"/>
            <a:ext cx="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7813800" y="2278080"/>
            <a:ext cx="10792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op up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7524720" y="3430440"/>
            <a:ext cx="1409760" cy="71928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Arial"/>
              </a:rPr>
              <a:t>2,84 δις € Δ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Object 17"/>
          <p:cNvGraphicFramePr/>
          <p:nvPr/>
        </p:nvGraphicFramePr>
        <p:xfrm>
          <a:off x="1187280" y="1916280"/>
          <a:ext cx="5848560" cy="358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916280"/>
                    <a:ext cx="5848560" cy="35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5 - Θέση αριθμού διαφάνειας"/>
          <p:cNvSpPr/>
          <p:nvPr/>
        </p:nvSpPr>
        <p:spPr>
          <a:xfrm>
            <a:off x="65530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82947-B060-4107-9E4A-3BDCC737E83A}" type="slidenum">
              <a:rPr b="0" lang="el-G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5 - Θέση αριθμού διαφάνειας"/>
          <p:cNvSpPr/>
          <p:nvPr/>
        </p:nvSpPr>
        <p:spPr>
          <a:xfrm>
            <a:off x="65530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7D66A-FA60-4053-A59E-82160A1C9602}" type="slidenum">
              <a:rPr b="0" lang="el-G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755280" y="549360"/>
            <a:ext cx="7931160" cy="54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 u="sng">
                <a:solidFill>
                  <a:srgbClr val="000000"/>
                </a:solidFill>
                <a:uFillTx/>
                <a:latin typeface="Calibri"/>
              </a:rPr>
              <a:t>Συνολικές Επιδόσεις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el-GR" sz="2000" spc="-1" strike="noStrike" u="sng">
                <a:solidFill>
                  <a:srgbClr val="000000"/>
                </a:solidFill>
                <a:uFillTx/>
                <a:latin typeface="Calibri"/>
              </a:rPr>
              <a:t>(Σεπτ. 201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" name="Object 8"/>
          <p:cNvGraphicFramePr/>
          <p:nvPr/>
        </p:nvGraphicFramePr>
        <p:xfrm>
          <a:off x="755640" y="1341360"/>
          <a:ext cx="7704000" cy="472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341360"/>
                    <a:ext cx="7704000" cy="47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5 - Θέση αριθμού διαφάνειας"/>
          <p:cNvSpPr/>
          <p:nvPr/>
        </p:nvSpPr>
        <p:spPr>
          <a:xfrm>
            <a:off x="65530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561DF-B451-45F0-BB11-82288FC0CF21}" type="slidenum">
              <a:rPr b="0" lang="el-G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5 - Θέση αριθμού διαφάνειας"/>
          <p:cNvSpPr/>
          <p:nvPr/>
        </p:nvSpPr>
        <p:spPr>
          <a:xfrm>
            <a:off x="65530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A66FE-B757-44E8-9C98-43AC3185D3C5}" type="slidenum">
              <a:rPr b="0" lang="el-G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403280" y="549360"/>
            <a:ext cx="72835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 u="sng">
                <a:solidFill>
                  <a:srgbClr val="000000"/>
                </a:solidFill>
                <a:uFillTx/>
                <a:latin typeface="Calibri"/>
              </a:rPr>
              <a:t>Βασικές Κατηγορίες Δράσεων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el-GR" sz="2000" spc="-1" strike="noStrike" u="sng">
                <a:solidFill>
                  <a:srgbClr val="000000"/>
                </a:solidFill>
                <a:uFillTx/>
                <a:latin typeface="Calibri"/>
              </a:rPr>
              <a:t>ΕΥΔ ΕΠΑ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Στοχευμένες κρατικές ενισχύσεις κυρίως για ΜΜΕ</a:t>
            </a:r>
            <a:br>
              <a:rPr sz="1800"/>
            </a:b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στους τομείς μεταποίησης, τουρισμού, εμπορίο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Ιδιωτικές επενδύσεις μέσω Αναπτυξιακού Νόμο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Χρηματοδοτικά εργαλεία για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Δράση ενίσχυσης ΜΜΕ των ΠΕ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Ενίσχυση δράσεων έρευνας και τεχνολογία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Έργα επέκτασης και αναβάθμισης ενεργειακών υποδομών της χώρας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Έργα συμπλήρωσης /αναβάθμισης τουριστικών και πολιτιστικών υποδομών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Δράσεις εξοικονόμησης ενέργεια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Σχέδια για στήριξη επιχειρηματικότητας και ενίσχυσης απασχόλησης και για την προσαρμοστικότητα εργαζομένων και επιχειρήσεων</a:t>
            </a:r>
            <a:r>
              <a:rPr b="1" lang="el-G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(μέσω ΕΚΤ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971640" y="404640"/>
          <a:ext cx="7921440" cy="5497560"/>
        </p:xfrm>
        <a:graphic>
          <a:graphicData uri="http://schemas.openxmlformats.org/drawingml/2006/table">
            <a:tbl>
              <a:tblPr/>
              <a:tblGrid>
                <a:gridCol w="4591080"/>
                <a:gridCol w="3330360"/>
              </a:tblGrid>
              <a:tr h="113328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Στοχευμένες Κρατικές Ενισχύσεις κυρίως για ΜΜ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7676"/>
                        </a:gs>
                        <a:gs pos="5000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Μεταποίηση στις νέες συνθήκε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7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518bbf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518bbf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  </a:t>
                      </a:r>
                      <a:r>
                        <a:rPr b="1" lang="el-GR" sz="18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7.050</a:t>
                      </a:r>
                      <a:r>
                        <a:rPr b="0" lang="el-GR" sz="18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 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έργα, 925 εκατ. € </a:t>
                      </a:r>
                      <a:br>
                        <a:rPr sz="1800"/>
                      </a:b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(430 εκατ. € ΔΔ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417cb1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  </a:t>
                      </a:r>
                      <a:r>
                        <a:rPr b="1" lang="el-GR" sz="18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2.000</a:t>
                      </a:r>
                      <a:r>
                        <a:rPr b="0" lang="el-GR" sz="18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 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ολοκληρωμέν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417cb1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417cb1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  </a:t>
                      </a:r>
                      <a:r>
                        <a:rPr b="1" lang="el-GR" sz="18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328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καινοτόμες επιχειρηματικές δραστηριότητε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417cb1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  </a:t>
                      </a:r>
                      <a:r>
                        <a:rPr b="1" lang="el-GR" sz="18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3.000</a:t>
                      </a:r>
                      <a:r>
                        <a:rPr b="0" lang="el-GR" sz="18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 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νέες ή υπό σύσταση επιχειρήσει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3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Εξωστρέφεια Ι και  Ι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Νέα Καινοτομική Επιχειρηματικότητα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Πράσινες υποδομές &amp;  Πράσινη επιχείρηση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Εναλλακτικός Τουρισμός  &amp; Πράσινος Τουρισμό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Επιχειρηματικότητα στοχευμένων  ομάδων (νέων, γυναικών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59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Ένδυση- Υπόδηση  </a:t>
                      </a:r>
                      <a:br>
                        <a:rPr sz="1600"/>
                      </a:b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Εκσυγχρονισμός χερσαίων εμπορευματικών οδικών μεταφορώ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Μετεγκατάσταση επιχειρήσεων σε ΒΕΠΕ και Επιχειρηματικά Πάρκ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4" name="5 - Θέση αριθμού διαφάνειας"/>
          <p:cNvSpPr/>
          <p:nvPr/>
        </p:nvSpPr>
        <p:spPr>
          <a:xfrm>
            <a:off x="65530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AF8E3-6260-47CC-89CD-4F2900807C54}" type="slidenum">
              <a:rPr b="0" lang="el-G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826920" y="260280"/>
          <a:ext cx="8172720" cy="6203880"/>
        </p:xfrm>
        <a:graphic>
          <a:graphicData uri="http://schemas.openxmlformats.org/drawingml/2006/table">
            <a:tbl>
              <a:tblPr/>
              <a:tblGrid>
                <a:gridCol w="4248360"/>
                <a:gridCol w="3924360"/>
              </a:tblGrid>
              <a:tr h="11332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- 4. Ειδικές Δράσεις για επιχειρήσει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7676"/>
                        </a:gs>
                        <a:gs pos="5000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5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Ιδιωτικές επενδύσεις στους τομείς Μεταποίησης, Τουρισμού, Εφοδιαστικής αλυσίδας και Ανανεώσιμων Πηγών Ενέργειας </a:t>
                      </a:r>
                      <a:br>
                        <a:rPr sz="1600"/>
                      </a:b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Επενδ. Ν. 3299/2004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518bbf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  </a:t>
                      </a:r>
                      <a:r>
                        <a:rPr b="1" lang="el-GR" sz="16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729</a:t>
                      </a:r>
                      <a:r>
                        <a:rPr b="0" lang="el-GR" sz="16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 </a:t>
                      </a: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έργα (συνολικά) </a:t>
                      </a:r>
                      <a:br>
                        <a:rPr sz="1600"/>
                      </a:b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2.490 εκατ. € (1.080 εκατ. € ΔΔ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518bbf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  </a:t>
                      </a:r>
                      <a:r>
                        <a:rPr b="1" lang="el-GR" sz="16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54</a:t>
                      </a: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νέες ή υπό σύσταση επιχειρήσει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518bbf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  </a:t>
                      </a:r>
                      <a:r>
                        <a:rPr b="1" lang="el-GR" sz="16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90</a:t>
                      </a:r>
                      <a:r>
                        <a:rPr b="0" lang="el-GR" sz="16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 </a:t>
                      </a: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έργα ΑΠ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36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Χρηματοδοτικά Εργαλεία για επιχειρήσει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ΤΕΠΙΧ </a:t>
                      </a:r>
                      <a:br>
                        <a:rPr sz="1400"/>
                      </a:b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Δάνεια γενικής επιχειρηματικότητας, για εξωστρέφεια, τουρισμό, πράσινες επενδύσεις, Επιχειρηματική επανεκκίνηση, Νησιωτική Επιχειρηματικότητα, Ταμείο Εγγυοδοσία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 </a:t>
                      </a:r>
                      <a:r>
                        <a:rPr b="0" lang="el-GR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ΕΛΤΕΠ ΜΜ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E</a:t>
                      </a: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-Ταμείο Εγγυοδοσία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JEREMIE</a:t>
                      </a:r>
                      <a:r>
                        <a:rPr b="0" lang="el-GR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: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br>
                        <a:rPr sz="1400"/>
                      </a:b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Ταμείο επιμερισμού επιχειρηματικού κινδύνου, Μικροδάνει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518bbf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  </a:t>
                      </a:r>
                      <a:r>
                        <a:rPr b="1" lang="el-GR" sz="16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1,09 δις € (ΔΔ) </a:t>
                      </a: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δεσμευμένα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518bbf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  </a:t>
                      </a:r>
                      <a:r>
                        <a:rPr b="1" lang="el-GR" sz="16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2,7 δις €</a:t>
                      </a:r>
                      <a:r>
                        <a:rPr b="1" lang="en-US" sz="1600" spc="-1" strike="noStrike">
                          <a:solidFill>
                            <a:srgbClr val="0e1f9e"/>
                          </a:solidFill>
                          <a:latin typeface="Calibri"/>
                          <a:ea typeface="Tahoma"/>
                        </a:rPr>
                        <a:t> </a:t>
                      </a: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διαθέσιμα κεφάλαια (μέσω ιδιωτικής μόχλευσης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518bbf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  </a:t>
                      </a:r>
                      <a:r>
                        <a:rPr b="1" lang="el-GR" sz="16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Πάνω από 6.300 επιχειρήσεις</a:t>
                      </a:r>
                      <a:r>
                        <a:rPr b="0" lang="el-GR" sz="1600" spc="-1" strike="noStrike">
                          <a:solidFill>
                            <a:srgbClr val="0e1f9e"/>
                          </a:solidFill>
                          <a:latin typeface="Calibri"/>
                          <a:ea typeface="Tahoma"/>
                        </a:rPr>
                        <a:t> </a:t>
                      </a: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κάνουν χρήση των εργαλείων </a:t>
                      </a:r>
                      <a:r>
                        <a:rPr b="1" lang="el-GR" sz="16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μέχρι</a:t>
                      </a: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στιγμής για δανειακά κεφάλαια ύψους </a:t>
                      </a:r>
                      <a:r>
                        <a:rPr b="1" lang="el-GR" sz="16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700 εκατ.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80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 «Ενίσχυση ΜΜΕ στους τομείς Μεταποίησης, Τουρισμού, Εμπορίου – Υπηρεσιών»  (μέσω των ΠΕΠ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</a:t>
                      </a:r>
                      <a:r>
                        <a:rPr b="1" lang="el-GR" sz="16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13.415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έργα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</a:t>
                      </a:r>
                      <a:r>
                        <a:rPr b="1" lang="el-GR" sz="16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1,74 δις €</a:t>
                      </a: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(ΔΔ 865 εκατ. €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6" name="5 - Θέση αριθμού διαφάνειας"/>
          <p:cNvSpPr/>
          <p:nvPr/>
        </p:nvSpPr>
        <p:spPr>
          <a:xfrm>
            <a:off x="65530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091DA-E6BA-47DE-8AF4-4640963038AA}" type="slidenum">
              <a:rPr b="0" lang="el-G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971640" y="425520"/>
          <a:ext cx="7561080" cy="5837040"/>
        </p:xfrm>
        <a:graphic>
          <a:graphicData uri="http://schemas.openxmlformats.org/drawingml/2006/table">
            <a:tbl>
              <a:tblPr/>
              <a:tblGrid>
                <a:gridCol w="4581360"/>
                <a:gridCol w="2979720"/>
              </a:tblGrid>
              <a:tr h="1133280">
                <a:tc gridSpan="2">
                  <a:txBody>
                    <a:bodyPr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 Ενίσχυση δράσεων έρευνας και τεχνολογία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7676"/>
                        </a:gs>
                        <a:gs pos="5000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8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Συνεργασίες επιχειρήσεων με ερευνητικούς φορείς για έργα σε τομείς προτεραιότητα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6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Ενισχύονται </a:t>
                      </a:r>
                      <a:r>
                        <a:rPr b="1" lang="el-GR" sz="16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1.100 αυτοτελή έργα Ε&amp;ΤΑ</a:t>
                      </a: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μέσω των οποίων υλοποιούνται τα ακόλουθα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417cb1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  </a:t>
                      </a:r>
                      <a:r>
                        <a:rPr b="1" lang="el-GR" sz="16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300 </a:t>
                      </a: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έργα συνεργασίας </a:t>
                      </a:r>
                      <a:r>
                        <a:rPr b="1" lang="el-GR" sz="16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644 </a:t>
                      </a: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επιχειρήσεων με </a:t>
                      </a:r>
                      <a:r>
                        <a:rPr b="1" lang="el-GR" sz="16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724 </a:t>
                      </a: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ερευνητικούς φορεί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417cb1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  </a:t>
                      </a:r>
                      <a:r>
                        <a:rPr b="1" lang="el-GR" sz="16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5 </a:t>
                      </a:r>
                      <a:r>
                        <a:rPr b="1" lang="en-US" sz="16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clusters </a:t>
                      </a: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καινοτομίας, στα οποία συμμετέχουν</a:t>
                      </a:r>
                      <a:r>
                        <a:rPr b="1" lang="el-GR" sz="16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 </a:t>
                      </a:r>
                      <a:r>
                        <a:rPr b="1" lang="el-GR" sz="14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106</a:t>
                      </a: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επιχειρήσεις και </a:t>
                      </a:r>
                      <a:r>
                        <a:rPr b="1" lang="el-GR" sz="14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14</a:t>
                      </a: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ερευνητικά ινστιτούτα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417cb1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  </a:t>
                      </a:r>
                      <a:r>
                        <a:rPr b="1" lang="el-GR" sz="14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39 καινοτόμες</a:t>
                      </a: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επιχειρήσει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417cb1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χορηγούνται </a:t>
                      </a:r>
                      <a:r>
                        <a:rPr b="1" lang="el-GR" sz="14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415</a:t>
                      </a: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l-GR" sz="14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κουπόνια</a:t>
                      </a: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καινοτομίας σε ΜΜ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417cb1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   </a:t>
                      </a:r>
                      <a:r>
                        <a:rPr b="1" lang="el-GR" sz="14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400 ερευνητικοί φορείς</a:t>
                      </a: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συμμετέχουν σε διμερείς και διεθνείς συνεργασίες με άλλες χώρες ή σε συνέργεια με ευρωπαϊκή πολιτική Ε&amp;Τα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50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Ενίσχυση για ανάπτυξη  Συνεργατικών Σχηματισμών </a:t>
                      </a:r>
                      <a:r>
                        <a:rPr b="1" lang="el-G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usters)</a:t>
                      </a: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έντασης γνώσης σε τομείς προτεραιότητα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Μικροηλεκτρονική/ ΤΠΕ/ Υγεία / Βιοιατρική/ Υλικά/ Ενέργεια/ Περιβάλλον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6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Νέες καινοτόμες επιχειρήσεις έντασης γνώσης </a:t>
                      </a:r>
                      <a:br>
                        <a:rPr sz="1600"/>
                      </a:b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in off – spin out</a:t>
                      </a: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2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Υποστήριξη νέων ΜΜΕ &amp; ομάδων ΜΜΕ για δραστηριότητες Ε&amp;Τ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4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Κουπόνια Καινοτομίας σε ΜΜ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61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Ευρωπαϊκή και Διεθνής Συνεργασία στην Έρευνα και Τεχνολογία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8" name="5 - Θέση αριθμού διαφάνειας"/>
          <p:cNvSpPr/>
          <p:nvPr/>
        </p:nvSpPr>
        <p:spPr>
          <a:xfrm>
            <a:off x="65530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ED194-36B5-4522-89F5-63D703D28BA4}" type="slidenum">
              <a:rPr b="0" lang="el-G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2T10:02:07Z</dcterms:created>
  <dc:creator>user</dc:creator>
  <dc:description/>
  <dc:language>en-US</dc:language>
  <cp:lastModifiedBy>Angeliki</cp:lastModifiedBy>
  <cp:lastPrinted>2014-09-17T13:39:59Z</cp:lastPrinted>
  <dcterms:modified xsi:type="dcterms:W3CDTF">2014-09-18T04:50:02Z</dcterms:modified>
  <cp:revision>921</cp:revision>
  <dc:subject/>
  <dc:title>Διαφάνεια 1</dc:title>
</cp:coreProperties>
</file>